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69C9-C1F9-41B1-9AFE-C53CC7A81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2E16-DEE3-490D-8AA4-716F10C46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CFCD-378C-4CAE-A494-54E09FAAB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0B6-22C0-43F6-9B12-E8EC32057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B52-089E-4509-99DE-10854BAB0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CA80-68C8-48A3-BAA2-4C2C89EF0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DB07-04BA-48DC-9DA3-2EFA4D9FD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DA8F-8DCE-4A8D-9204-6EDCB3C2B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6765-C1D6-4464-B93F-ED6A40712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79A0-33BA-4455-892E-A3111295F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1DDC-86BB-4568-80EB-C3381B814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5FB9-7757-4F55-808B-3BA79D9BE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027F-AAB8-49F6-AD9E-87CCFB154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0358-1243-4905-B98B-B9EA202A8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7E39-BE52-4136-A75F-FDF3CD13E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625D-45E5-4C27-95E5-3CE097304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270-2625-42E4-B3B2-1172FB89E52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nding and Correcting Errors on the Work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2045-D5F4-477A-A2CE-E39BBD1A939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ERROR IN POSTING TO THE WRONG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6\C21_blue_0616.jpg"/>
          <p:cNvPicPr/>
          <p:nvPr/>
        </p:nvPicPr>
        <p:blipFill>
          <a:blip r:embed="rId1"/>
          <a:srcRect l="4805" t="0" r="1925" b="10606"/>
          <a:stretch/>
        </p:blipFill>
        <p:spPr>
          <a:xfrm>
            <a:off x="304920" y="1447920"/>
            <a:ext cx="6629400" cy="3355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entire incorrect entry. Recalculate the account balance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649840" y="2743200"/>
            <a:ext cx="2125080" cy="413280"/>
            <a:chOff x="5649840" y="2743200"/>
            <a:chExt cx="2125080" cy="413280"/>
          </a:xfrm>
        </p:grpSpPr>
        <p:sp>
          <p:nvSpPr>
            <p:cNvPr id="104" name="Rectangle 8"/>
            <p:cNvSpPr/>
            <p:nvPr/>
          </p:nvSpPr>
          <p:spPr>
            <a:xfrm>
              <a:off x="564984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6120360" y="2757600"/>
              <a:ext cx="16545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rect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5989680" y="4419720"/>
            <a:ext cx="2293920" cy="412920"/>
            <a:chOff x="5989680" y="4419720"/>
            <a:chExt cx="2293920" cy="412920"/>
          </a:xfrm>
        </p:grpSpPr>
        <p:sp>
          <p:nvSpPr>
            <p:cNvPr id="107" name="Rectangle 9"/>
            <p:cNvSpPr/>
            <p:nvPr/>
          </p:nvSpPr>
          <p:spPr>
            <a:xfrm>
              <a:off x="5989680" y="4419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6473880" y="4433760"/>
              <a:ext cx="18097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orrect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304920" y="5546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osting in the correct account. Recalculate the account balance,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A36B-64C6-4C8E-B50B-981E80D9ADB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INCORRECT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C:\Documents and Settings\mcm08@fuse.net\My Documents\2005 Business Projects\Slides for Century 21 Accounting\Blue\ch06\C21_blue_0617.jpg"/>
          <p:cNvPicPr/>
          <p:nvPr/>
        </p:nvPicPr>
        <p:blipFill>
          <a:blip r:embed="rId1"/>
          <a:stretch/>
        </p:blipFill>
        <p:spPr>
          <a:xfrm>
            <a:off x="304920" y="1438200"/>
            <a:ext cx="8381880" cy="233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50532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4832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31520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04920" y="4114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incorrec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04920" y="4479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orrect amount just above the correction in the sam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04920" y="485136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culate the account balance, and correct the account balance on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40A-9F4E-4C50-B503-7ECF3CB000B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AMOUNT POSTED TO THE WRONG COLUM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027" descr="C:\Documents and Settings\mcm08@fuse.net\My Documents\2005 Business Projects\Slides for Century 21 Accounting\Blue\ch06\C21_blue_0617.jpg"/>
          <p:cNvPicPr/>
          <p:nvPr/>
        </p:nvPicPr>
        <p:blipFill>
          <a:blip r:embed="rId1"/>
          <a:stretch/>
        </p:blipFill>
        <p:spPr>
          <a:xfrm>
            <a:off x="304920" y="1438200"/>
            <a:ext cx="8381880" cy="2330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1"/>
          <p:cNvSpPr/>
          <p:nvPr/>
        </p:nvSpPr>
        <p:spPr>
          <a:xfrm>
            <a:off x="556272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33"/>
          <p:cNvSpPr/>
          <p:nvPr/>
        </p:nvSpPr>
        <p:spPr>
          <a:xfrm>
            <a:off x="675180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7"/>
          <p:cNvSpPr/>
          <p:nvPr/>
        </p:nvSpPr>
        <p:spPr>
          <a:xfrm>
            <a:off x="-51480" y="484344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culate the account balance,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-48240" y="4479840"/>
            <a:ext cx="67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osting in the correct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-47880" y="4114800"/>
            <a:ext cx="71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incorrect item in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40"/>
          <p:cNvSpPr/>
          <p:nvPr/>
        </p:nvSpPr>
        <p:spPr>
          <a:xfrm>
            <a:off x="350532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41"/>
          <p:cNvSpPr/>
          <p:nvPr/>
        </p:nvSpPr>
        <p:spPr>
          <a:xfrm>
            <a:off x="464832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42"/>
          <p:cNvSpPr/>
          <p:nvPr/>
        </p:nvSpPr>
        <p:spPr>
          <a:xfrm>
            <a:off x="731520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32"/>
          <p:cNvSpPr/>
          <p:nvPr/>
        </p:nvSpPr>
        <p:spPr>
          <a:xfrm>
            <a:off x="43894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for Typical Calculation Err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divisibl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ifference is $50  - look for a $25 recorded in the wrong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divisible b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 number that might have been transp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 number that has slide 12 instead of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an omitted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n account balance equal to th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55F-4E99-4C29-A278-24F0F3D6794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F52A-C011-4DFA-9EB8-E44748C2A6A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0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trial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supplies adju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prepaid insurance adju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e Adjustments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ll balance sheet account bal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ll income statement account bal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record the net income (or net lo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nd rule the Income Statement and Balance Sheet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BD7-4AC3-4692-BCC4-890A0E95506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grpSp>
          <p:nvGrpSpPr>
            <p:cNvPr id="148" name="Group 4"/>
            <p:cNvGrpSpPr/>
            <p:nvPr/>
          </p:nvGrpSpPr>
          <p:grpSpPr>
            <a:xfrm>
              <a:off x="0" y="0"/>
              <a:ext cx="9144000" cy="6284880"/>
              <a:chOff x="0" y="0"/>
              <a:chExt cx="9144000" cy="6284880"/>
            </a:xfrm>
          </p:grpSpPr>
          <p:pic>
            <p:nvPicPr>
              <p:cNvPr id="149" name="Picture 5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28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6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2"/>
              <a:srcRect l="45833" t="19401" r="36670" b="0"/>
              <a:stretch/>
            </p:blipFill>
            <p:spPr>
              <a:xfrm>
                <a:off x="2590920" y="1219320"/>
                <a:ext cx="1600200" cy="506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1" name="Picture 7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3"/>
            <a:srcRect l="1669" t="607" r="71668" b="86061"/>
            <a:stretch/>
          </p:blipFill>
          <p:spPr>
            <a:xfrm>
              <a:off x="3352680" y="36360"/>
              <a:ext cx="24386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4"/>
            <a:srcRect l="1669" t="87302" r="71433" b="0"/>
            <a:stretch/>
          </p:blipFill>
          <p:spPr>
            <a:xfrm>
              <a:off x="152280" y="13986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5"/>
            <a:srcRect l="1669" t="87302" r="71433" b="0"/>
            <a:stretch/>
          </p:blipFill>
          <p:spPr>
            <a:xfrm>
              <a:off x="152280" y="34542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6"/>
            <a:srcRect l="1669" t="87302" r="71433" b="0"/>
            <a:stretch/>
          </p:blipFill>
          <p:spPr>
            <a:xfrm>
              <a:off x="152280" y="209088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1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7"/>
            <a:srcRect l="1669" t="87302" r="71433" b="0"/>
            <a:stretch/>
          </p:blipFill>
          <p:spPr>
            <a:xfrm>
              <a:off x="152280" y="276372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2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8"/>
            <a:srcRect l="1669" t="87302" r="71433" b="0"/>
            <a:stretch/>
          </p:blipFill>
          <p:spPr>
            <a:xfrm>
              <a:off x="152280" y="41274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3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9"/>
            <a:srcRect l="1669" t="87302" r="71433" b="0"/>
            <a:stretch/>
          </p:blipFill>
          <p:spPr>
            <a:xfrm>
              <a:off x="152280" y="4808520"/>
              <a:ext cx="2460600" cy="797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0C4-A78B-4A01-825B-513150DB9AE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grpSp>
          <p:nvGrpSpPr>
            <p:cNvPr id="162" name="Group 4"/>
            <p:cNvGrpSpPr/>
            <p:nvPr/>
          </p:nvGrpSpPr>
          <p:grpSpPr>
            <a:xfrm>
              <a:off x="0" y="0"/>
              <a:ext cx="9144000" cy="6284880"/>
              <a:chOff x="0" y="0"/>
              <a:chExt cx="9144000" cy="6284880"/>
            </a:xfrm>
          </p:grpSpPr>
          <p:pic>
            <p:nvPicPr>
              <p:cNvPr id="163" name="Picture 5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28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6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2"/>
              <a:srcRect l="45833" t="19401" r="36670" b="0"/>
              <a:stretch/>
            </p:blipFill>
            <p:spPr>
              <a:xfrm>
                <a:off x="2590920" y="1219320"/>
                <a:ext cx="1600200" cy="506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" name="Picture 7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3"/>
            <a:srcRect l="1669" t="87302" r="71433" b="0"/>
            <a:stretch/>
          </p:blipFill>
          <p:spPr>
            <a:xfrm>
              <a:off x="152280" y="13986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8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4"/>
            <a:srcRect l="1669" t="87302" r="71433" b="0"/>
            <a:stretch/>
          </p:blipFill>
          <p:spPr>
            <a:xfrm>
              <a:off x="152280" y="345456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9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5"/>
            <a:srcRect l="1669" t="87302" r="71433" b="0"/>
            <a:stretch/>
          </p:blipFill>
          <p:spPr>
            <a:xfrm>
              <a:off x="152280" y="209088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6"/>
            <a:srcRect l="1669" t="87302" r="71433" b="0"/>
            <a:stretch/>
          </p:blipFill>
          <p:spPr>
            <a:xfrm>
              <a:off x="152280" y="276372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1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7"/>
            <a:srcRect l="1669" t="87302" r="71433" b="0"/>
            <a:stretch/>
          </p:blipFill>
          <p:spPr>
            <a:xfrm>
              <a:off x="152280" y="41274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8"/>
            <a:srcRect l="1669" t="87302" r="71433" b="0"/>
            <a:stretch/>
          </p:blipFill>
          <p:spPr>
            <a:xfrm>
              <a:off x="152280" y="4808520"/>
              <a:ext cx="246060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13"/>
          <p:cNvSpPr/>
          <p:nvPr/>
        </p:nvSpPr>
        <p:spPr>
          <a:xfrm>
            <a:off x="2971800" y="26496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A18-7ED0-4851-BBFE-4C99598F83D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pic>
          <p:nvPicPr>
            <p:cNvPr id="176" name="Picture 4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28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2"/>
            <a:srcRect l="45833" t="19401" r="36670" b="0"/>
            <a:stretch/>
          </p:blipFill>
          <p:spPr>
            <a:xfrm>
              <a:off x="2590920" y="1219320"/>
              <a:ext cx="1600200" cy="506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6"/>
          <p:cNvGrpSpPr/>
          <p:nvPr/>
        </p:nvGrpSpPr>
        <p:grpSpPr>
          <a:xfrm>
            <a:off x="4187520" y="2498760"/>
            <a:ext cx="1661040" cy="2149560"/>
            <a:chOff x="4187520" y="2498760"/>
            <a:chExt cx="1661040" cy="2149560"/>
          </a:xfrm>
        </p:grpSpPr>
        <p:sp>
          <p:nvSpPr>
            <p:cNvPr id="179" name="Text Box 7"/>
            <p:cNvSpPr/>
            <p:nvPr/>
          </p:nvSpPr>
          <p:spPr>
            <a:xfrm>
              <a:off x="4187520" y="4335480"/>
              <a:ext cx="88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b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8"/>
            <p:cNvGrpSpPr/>
            <p:nvPr/>
          </p:nvGrpSpPr>
          <p:grpSpPr>
            <a:xfrm>
              <a:off x="4723920" y="2779560"/>
              <a:ext cx="838440" cy="1600200"/>
              <a:chOff x="4723920" y="2779560"/>
              <a:chExt cx="838440" cy="1600200"/>
            </a:xfrm>
          </p:grpSpPr>
          <p:sp>
            <p:nvSpPr>
              <p:cNvPr id="181" name="Line 9"/>
              <p:cNvSpPr/>
              <p:nvPr/>
            </p:nvSpPr>
            <p:spPr>
              <a:xfrm flipH="1">
                <a:off x="4723920" y="2779560"/>
                <a:ext cx="838440" cy="1600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4938840" y="33735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Text Box 11"/>
            <p:cNvSpPr/>
            <p:nvPr/>
          </p:nvSpPr>
          <p:spPr>
            <a:xfrm>
              <a:off x="4968360" y="2498760"/>
              <a:ext cx="88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b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4187160" y="2278080"/>
            <a:ext cx="2004120" cy="3038400"/>
            <a:chOff x="4187160" y="2278080"/>
            <a:chExt cx="2004120" cy="3038400"/>
          </a:xfrm>
        </p:grpSpPr>
        <p:sp>
          <p:nvSpPr>
            <p:cNvPr id="185" name="Text Box 13"/>
            <p:cNvSpPr/>
            <p:nvPr/>
          </p:nvSpPr>
          <p:spPr>
            <a:xfrm>
              <a:off x="4976280" y="2278080"/>
              <a:ext cx="872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7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4187160" y="5003640"/>
              <a:ext cx="872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7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15"/>
            <p:cNvGrpSpPr/>
            <p:nvPr/>
          </p:nvGrpSpPr>
          <p:grpSpPr>
            <a:xfrm>
              <a:off x="4819680" y="2427120"/>
              <a:ext cx="1371600" cy="2638440"/>
              <a:chOff x="4819680" y="2427120"/>
              <a:chExt cx="1371600" cy="2638440"/>
            </a:xfrm>
          </p:grpSpPr>
          <p:sp>
            <p:nvSpPr>
              <p:cNvPr id="188" name="Freeform 16"/>
              <p:cNvSpPr/>
              <p:nvPr/>
            </p:nvSpPr>
            <p:spPr>
              <a:xfrm>
                <a:off x="4819680" y="2427120"/>
                <a:ext cx="1371600" cy="2638440"/>
              </a:xfrm>
              <a:custGeom>
                <a:avLst/>
                <a:gdLst/>
                <a:ahLst/>
                <a:rect l="l" t="t" r="r" b="b"/>
                <a:pathLst>
                  <a:path w="864" h="1584">
                    <a:moveTo>
                      <a:pt x="0" y="1584"/>
                    </a:moveTo>
                    <a:lnTo>
                      <a:pt x="864" y="0"/>
                    </a:lnTo>
                    <a:lnTo>
                      <a:pt x="624" y="0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7"/>
              <p:cNvSpPr/>
              <p:nvPr/>
            </p:nvSpPr>
            <p:spPr>
              <a:xfrm>
                <a:off x="5562720" y="30844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Group 18"/>
          <p:cNvGrpSpPr/>
          <p:nvPr/>
        </p:nvGrpSpPr>
        <p:grpSpPr>
          <a:xfrm>
            <a:off x="820800" y="1379520"/>
            <a:ext cx="3445920" cy="4156200"/>
            <a:chOff x="820800" y="1379520"/>
            <a:chExt cx="3445920" cy="4156200"/>
          </a:xfrm>
        </p:grpSpPr>
        <p:sp>
          <p:nvSpPr>
            <p:cNvPr id="191" name="Text Box 19"/>
            <p:cNvSpPr/>
            <p:nvPr/>
          </p:nvSpPr>
          <p:spPr>
            <a:xfrm>
              <a:off x="820800" y="137952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96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2789640" y="52228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2687760" y="20574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3473280" y="27432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2789640" y="34084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>
              <a:off x="3473280" y="3865680"/>
              <a:ext cx="793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56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5"/>
            <p:cNvSpPr/>
            <p:nvPr/>
          </p:nvSpPr>
          <p:spPr>
            <a:xfrm>
              <a:off x="2789640" y="40942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1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6"/>
            <p:cNvSpPr/>
            <p:nvPr/>
          </p:nvSpPr>
          <p:spPr>
            <a:xfrm>
              <a:off x="2789640" y="4532400"/>
              <a:ext cx="69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Line 27"/>
          <p:cNvSpPr/>
          <p:nvPr/>
        </p:nvSpPr>
        <p:spPr>
          <a:xfrm>
            <a:off x="2600280" y="5484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6877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47328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2600280" y="5715000"/>
            <a:ext cx="1600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4380120" y="5443560"/>
            <a:ext cx="69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5169240" y="5443560"/>
            <a:ext cx="69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4175280" y="5715000"/>
            <a:ext cx="1600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5791320" y="5484960"/>
            <a:ext cx="319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58611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6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64992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74469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823428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2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664992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44696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1"/>
          <p:cNvSpPr/>
          <p:nvPr/>
        </p:nvSpPr>
        <p:spPr>
          <a:xfrm>
            <a:off x="5791320" y="6161040"/>
            <a:ext cx="3198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2"/>
          <p:cNvGrpSpPr/>
          <p:nvPr/>
        </p:nvGrpSpPr>
        <p:grpSpPr>
          <a:xfrm>
            <a:off x="5610240" y="1371600"/>
            <a:ext cx="3417480" cy="2349720"/>
            <a:chOff x="5610240" y="1371600"/>
            <a:chExt cx="3417480" cy="2349720"/>
          </a:xfrm>
        </p:grpSpPr>
        <p:sp>
          <p:nvSpPr>
            <p:cNvPr id="215" name="Text Box 43"/>
            <p:cNvSpPr/>
            <p:nvPr/>
          </p:nvSpPr>
          <p:spPr>
            <a:xfrm>
              <a:off x="5610240" y="13716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96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7446960" y="20574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45"/>
            <p:cNvSpPr/>
            <p:nvPr/>
          </p:nvSpPr>
          <p:spPr>
            <a:xfrm>
              <a:off x="8234280" y="27432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6"/>
            <p:cNvSpPr/>
            <p:nvPr/>
          </p:nvSpPr>
          <p:spPr>
            <a:xfrm>
              <a:off x="7548840" y="34084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7010280" y="18651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5963040" y="3886200"/>
            <a:ext cx="1839600" cy="1649520"/>
            <a:chOff x="5963040" y="3886200"/>
            <a:chExt cx="1839600" cy="1649520"/>
          </a:xfrm>
        </p:grpSpPr>
        <p:grpSp>
          <p:nvGrpSpPr>
            <p:cNvPr id="221" name="Group 49"/>
            <p:cNvGrpSpPr/>
            <p:nvPr/>
          </p:nvGrpSpPr>
          <p:grpSpPr>
            <a:xfrm>
              <a:off x="5963040" y="3886200"/>
              <a:ext cx="1480320" cy="1649520"/>
              <a:chOff x="5963040" y="3886200"/>
              <a:chExt cx="1480320" cy="1649520"/>
            </a:xfrm>
          </p:grpSpPr>
          <p:sp>
            <p:nvSpPr>
              <p:cNvPr id="222" name="Text Box 50"/>
              <p:cNvSpPr/>
              <p:nvPr/>
            </p:nvSpPr>
            <p:spPr>
              <a:xfrm>
                <a:off x="5963040" y="52228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51"/>
              <p:cNvSpPr/>
              <p:nvPr/>
            </p:nvSpPr>
            <p:spPr>
              <a:xfrm>
                <a:off x="5963040" y="40942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1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52"/>
              <p:cNvSpPr/>
              <p:nvPr/>
            </p:nvSpPr>
            <p:spPr>
              <a:xfrm>
                <a:off x="5963040" y="4532400"/>
                <a:ext cx="691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8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6649920" y="3886200"/>
                <a:ext cx="7934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565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5963040" y="43354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963040" y="500364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15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Rectangle 56"/>
            <p:cNvSpPr/>
            <p:nvPr/>
          </p:nvSpPr>
          <p:spPr>
            <a:xfrm>
              <a:off x="7391520" y="4456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57"/>
          <p:cNvSpPr/>
          <p:nvPr/>
        </p:nvSpPr>
        <p:spPr>
          <a:xfrm>
            <a:off x="5861160" y="567360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8234280" y="567360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195840" y="56610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60"/>
          <p:cNvGrpSpPr/>
          <p:nvPr/>
        </p:nvGrpSpPr>
        <p:grpSpPr>
          <a:xfrm>
            <a:off x="1295280" y="5624640"/>
            <a:ext cx="4572000" cy="411120"/>
            <a:chOff x="1295280" y="5624640"/>
            <a:chExt cx="4572000" cy="411120"/>
          </a:xfrm>
        </p:grpSpPr>
        <p:sp>
          <p:nvSpPr>
            <p:cNvPr id="233" name="Line 61"/>
            <p:cNvSpPr/>
            <p:nvPr/>
          </p:nvSpPr>
          <p:spPr>
            <a:xfrm>
              <a:off x="1295280" y="5830920"/>
              <a:ext cx="457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1828800" y="5624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3"/>
          <p:cNvGrpSpPr/>
          <p:nvPr/>
        </p:nvGrpSpPr>
        <p:grpSpPr>
          <a:xfrm>
            <a:off x="5257800" y="5943600"/>
            <a:ext cx="3732120" cy="417600"/>
            <a:chOff x="5257800" y="5943600"/>
            <a:chExt cx="3732120" cy="417600"/>
          </a:xfrm>
        </p:grpSpPr>
        <p:sp>
          <p:nvSpPr>
            <p:cNvPr id="236" name="Line 64"/>
            <p:cNvSpPr/>
            <p:nvPr/>
          </p:nvSpPr>
          <p:spPr>
            <a:xfrm>
              <a:off x="5791320" y="5943600"/>
              <a:ext cx="319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5257800" y="5950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66"/>
          <p:cNvSpPr/>
          <p:nvPr/>
        </p:nvSpPr>
        <p:spPr>
          <a:xfrm>
            <a:off x="2971800" y="26496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2362320" y="79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68"/>
          <p:cNvGrpSpPr/>
          <p:nvPr/>
        </p:nvGrpSpPr>
        <p:grpSpPr>
          <a:xfrm>
            <a:off x="4175280" y="5010120"/>
            <a:ext cx="1600200" cy="474840"/>
            <a:chOff x="4175280" y="5010120"/>
            <a:chExt cx="1600200" cy="474840"/>
          </a:xfrm>
        </p:grpSpPr>
        <p:sp>
          <p:nvSpPr>
            <p:cNvPr id="241" name="Line 69"/>
            <p:cNvSpPr/>
            <p:nvPr/>
          </p:nvSpPr>
          <p:spPr>
            <a:xfrm>
              <a:off x="4175280" y="548496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5222880" y="5010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71"/>
          <p:cNvSpPr/>
          <p:nvPr/>
        </p:nvSpPr>
        <p:spPr>
          <a:xfrm>
            <a:off x="586116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823428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27:37Z</dcterms:modified>
  <cp:revision>21</cp:revision>
  <dc:subject/>
  <dc:title>Lesson 6-1</dc:title>
</cp:coreProperties>
</file>